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ACEB-94F1-4F89-9725-AE0B795C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14A3-C520-4241-8F7D-241860FE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B29-7CD1-4590-9B03-0B575EBF5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7D24-F080-4D62-8213-7415C5930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85B9-7E14-4D43-85ED-9CCB023F2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029B-BADF-4C81-8B3D-0B4EC210B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E2B-EE43-4D21-A8AC-5BFF6096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92F-2BCB-4629-A041-D45EA958E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5BC-A766-43C9-A4FD-1F333554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7DD-3819-4249-94D4-3D4EE83F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72C-2633-4195-BA92-FF081771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6B9-ADE8-4AB3-B364-E7843028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067-7B9E-4996-A775-3DF5FF0B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CDEE-4965-4E05-A22D-5B8FEAE7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BD5-B41B-4BFC-B23F-4EE3F55F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D31-D602-48A4-B7D4-E12B279D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BD8-FDA4-4F6A-A826-8E3F2BDE7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16C-3DAD-4B01-B2B7-DE81528C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769-53F3-4913-8756-677A62F4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F051-E033-42E5-8B26-11A3F5D7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743-47A1-49B2-9C34-88A3379B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8D6-9A8F-4AA7-BEC8-ED74A7FD4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1AF-CDF1-4A82-A2C2-B652B474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35B-46C9-4EA8-B8C4-C37D392B9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4D5-B418-467B-8B6E-F3F8E6C2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27B-9F6E-42E7-AD28-DA7CFA55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79BD-0209-40BC-B0BA-5E4CF0B5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A24-D75E-422C-8600-C8F781167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17D-BE2D-42D8-8080-1DCB8822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0B1-6BE0-4F86-A563-EB67C579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2D73-6164-4494-ABC1-1C343067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1435-B364-4F3B-B416-85922D9F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4FCF-84CF-4EA5-B7F2-A17FAF93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8CF-E2F0-4EE2-B1D4-FF535C76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B03-55D8-4991-A86F-28F4438E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47F-A73C-473D-AD5A-FDD9F526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1EF5-E790-42C5-BC07-BEC953D2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54D0-EE69-4B50-A040-A4824991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A6B3-4557-402C-AA1B-CCA52C70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7A8-96C9-4FC6-ADF7-22017F3E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67C8-805D-4B8C-8AED-F3D2C4E4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D908-69E4-4355-9718-56D7E3EB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67B-6EA8-4308-B268-6CC83D53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365F-E84A-4EF8-ADD5-C4DCCDD7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17A-EDD1-4258-967D-BE0BB5DB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A2B-6047-4CE0-9603-E97F58BD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A30-F8DF-4E04-9A39-C502092C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18BD-DE90-43AD-B5BC-A5E06080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641-510E-46C1-AA4B-F096A597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2DF-283B-49BC-81F8-D25E3BB57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F5D-78EF-4B37-BC0A-D1F9C6D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A3F-2FA7-4EF5-A658-FBB7B3E7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291-444B-4B32-A035-DED1944E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B15-2FB3-4711-846B-2A2772FD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55BC-ACE4-4002-83E7-456F71FE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5826-79C7-4687-8F6B-C696DE2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48FD-29F1-4E41-9B41-92E9630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195A-E68D-42B7-8E85-B71B221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A594-1965-439C-A6E6-5BD3728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96D9-C9AF-4EBD-98E8-A501AEA6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A9E6-E4CC-456E-AC19-7BCB44A4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9F8-2444-4769-9DF9-25D6664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E29A-9FC1-40F0-A096-5E3F605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4BD8-1643-4B92-93B8-FF30C389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601A-F7F8-4005-9CCC-5DB9E190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ED05-031E-4ECD-BAE0-B7D117FA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5FCE-2B5E-46C0-82FD-79E514B9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8DDD-9279-47BF-A5BA-19F9F40A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3248-C4FB-44D7-8A62-D8238191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DD2E-48D8-4DE3-B399-FCA23F15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CCBB8-F258-45E8-859B-E7D28F1E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75EE-0909-4C6C-88EE-1C309721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225-ACBB-49E1-8A10-2C5AD369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7819-D198-453C-8626-177138A2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979E-CFE0-44B6-A6DA-88C7A2E7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CDF7-6665-4BB7-8613-BAD1EE2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3BAC4-3B56-480F-9F7B-88E231D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153B-405B-4E6D-BBD5-DDB7DD4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B977-6BE1-4337-9934-602579DF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C5ABC-8AA9-4114-A37D-7A826123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CEAB-8446-4259-A628-FB2131C8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D64A6-AE76-44EE-8742-0A01EE34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1AF8-BDC6-4426-A097-A4F3F485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58F-0971-4BCF-A10A-0CBBA60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8FAD-7805-4EB4-B062-CF98B0D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79F8-A6B8-4C07-A016-EC3ECE5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3FEA2-5F26-422E-902E-82DF9BF2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AE2A-8468-41E6-A626-F2FEF30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AF9E-8511-4E83-9C1A-C03FC19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A8D5-1334-40BA-9736-9E7EF32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6D9C-1C01-478D-A72D-851A39E6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79DD-BD69-4D0A-AA54-C498C959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401F-A302-48D7-9B7D-F2A7835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6E0-17F7-42C2-97AE-CE71B9E0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0C5-8D88-46B4-9026-1CD683CC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4F6-940D-4C5D-9986-2E8D6CDF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E5E-E94D-4BCF-B095-CCF3C69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810-A5D4-4CF1-9B00-31B7A01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3EEE-BD9E-4EDB-B595-05F8BA72BA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9DCA-70F4-4402-B367-C7A354763A1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48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AINS_Globe_70smws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EB3A-36D9-4738-BDD3-631D5D51D46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C2F5-CFC7-4011-8168-AF3D5706ED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81000" y="267336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’s Important in the Math we Teach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 focus on big idea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564000" y="1521000"/>
            <a:ext cx="380664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nary Sess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708360" y="4976640"/>
            <a:ext cx="3807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n Small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ww.onetwoinfinity.ca</a:t>
            </a: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7BE6-45D2-4A0E-A997-AFA79F83963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eacher struggle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experience is that setting lesson goals beyond reciting an expectation or simply using a topic name is a struggl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8BA-CAE0-4743-8DBB-408E12EE506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ead of this goal: solve problems involving percents expressed to .. whole-number percents greater than 100%..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24E-B2DC-4802-A0AB-B0C864C41FC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990720" y="2209680"/>
            <a:ext cx="7416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number is less than 100% of another, the second number is more than 100% of the first. OR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149E-E4B5-47BA-BBA9-C1C27F8A835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228600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percent is greater than 100%, its decimal equivalent is greater than 1. OR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88F-651E-442E-A622-ACFB9F3A73A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41480" y="1981080"/>
            <a:ext cx="741672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could be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ame strategies are used to solve problems involving percents greater than 100% as problems involving percents less than 100%. OR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3087-3823-471F-B5A3-3D4595E73E6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you want to do thi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066680" y="28954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cide on the goal, you are more likely to know what questions to ask, what activity to use,…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81DE-17E8-439C-85E1-6FF0B43F474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ke it your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066680" y="28954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 if you get a lesson from a valued resource, you have to make your OWN decision about what to pull out of that less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A189-63A8-4208-8EA5-12A454E409F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look at this lesson from Grade 7 TIP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CB6-9FE9-4CC6-AD03-1D5AC45B63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988-80CB-4E1E-B76F-13D6D6D840F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4" name="Picture 2" descr="Picture 1.png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3A6-9DD2-4CB5-AE74-4744E83C04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6" name="Picture 2" descr="Picture 2.png"/>
          <p:cNvPicPr/>
          <p:nvPr/>
        </p:nvPicPr>
        <p:blipFill>
          <a:blip r:embed="rId1"/>
          <a:stretch/>
        </p:blipFill>
        <p:spPr>
          <a:xfrm>
            <a:off x="0" y="1969920"/>
            <a:ext cx="9144000" cy="29181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2057400" y="3733920"/>
            <a:ext cx="5943600" cy="304560"/>
          </a:xfrm>
          <a:prstGeom prst="rect">
            <a:avLst/>
          </a:prstGeom>
          <a:solidFill>
            <a:srgbClr val="ffff00">
              <a:alpha val="19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042920" y="2014560"/>
            <a:ext cx="7416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term in a linear growing pattern is negativ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term is 20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ight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3A7-3935-4F2D-AC70-760D02C9C9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FA68-6992-4501-8542-91939DD5B6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9" name="Picture 2" descr="Picture 3.pn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419720" y="1905120"/>
            <a:ext cx="4343400" cy="304560"/>
          </a:xfrm>
          <a:prstGeom prst="rect">
            <a:avLst/>
          </a:prstGeom>
          <a:solidFill>
            <a:srgbClr val="ffff00">
              <a:alpha val="21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648320" y="2666880"/>
            <a:ext cx="3429000" cy="30492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324480" y="2895480"/>
            <a:ext cx="28195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209680" y="3124080"/>
            <a:ext cx="3505320" cy="38124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3036-5B15-4C73-9CE2-5610A7EEA2D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5" name="Picture 2" descr="Picture 4.pn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0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BFBC-B828-4A4F-93E4-7277ACFDA0D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7" name="Picture 2" descr="Picture 5.png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1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134-8FD9-4C51-994B-35CBFDF597F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49" name="Picture 2" descr="Picture 6.png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ayb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066680" y="220968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this: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ay I figure out terms 3, 4, 5, and 6 might be very different from the way I figure out term 100 because…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F35-5BBD-4EF7-AA40-46F940CDDCE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219320" y="190512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ndy Charles: A Big Idea is a statement of an idea that is central to the learning of mathematics,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A3C-F9AC-46A1-B0FB-C5878E35BD7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that links numerous mathematical understandings into a coherent whol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85D-146F-4A45-856B-9AB44A0168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not a topic name nor is it an overall expectation. It is a statement (sentence) that a student could walk away with that makes a fundamental mathematical connecti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1FB-16D2-41A3-9C55-516DC3223C7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1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219320" y="1905120"/>
            <a:ext cx="741672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reasoning is a process of describing and analyzing (e.g. predicting)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neralized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ematical relationships and change using words and symbol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E5A4-D7AD-40C6-92AD-ECBF60DACDE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It’s not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219320" y="1905120"/>
            <a:ext cx="74167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possible that it may, on first blush, sound like a definition, but it’s not. It provides a new lens in which to embed the learning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6EB4-448C-4AAC-9D37-E14A558DEC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42920" y="201456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BE2-DA59-47D9-B4A6-AF3D7611997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19320" y="2362320"/>
          <a:ext cx="7391160" cy="2743200"/>
        </p:xfrm>
        <a:graphic>
          <a:graphicData uri="http://schemas.openxmlformats.org/drawingml/2006/table">
            <a:tbl>
              <a:tblPr/>
              <a:tblGrid>
                <a:gridCol w="1825560"/>
                <a:gridCol w="865080"/>
                <a:gridCol w="593640"/>
                <a:gridCol w="822600"/>
                <a:gridCol w="820440"/>
                <a:gridCol w="820800"/>
                <a:gridCol w="822600"/>
                <a:gridCol w="820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otice the processe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219320" y="190512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ice the embedded processes- communication, reasoning, connecting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58B-0D92-47DE-93B6-F6E6447F8D7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2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457200" y="1905120"/>
            <a:ext cx="868680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erent representations of relationships (e.g. numeric, graphic, geometric, algebraic) highlight different characteristics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haviours and can serve different purpose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1A9-E4A9-4AA7-8A49-D61088A15E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ich processe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190512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processes do you seem embedded?  &lt;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embed gears picture&gt;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6345-D13A-435B-A89F-374150D806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3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19320" y="1905120"/>
            <a:ext cx="7416720" cy="71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aring mathematical relationships helps us see that there are classes of relationships and provides insight into each member of the clas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C01-5BE8-4247-B3E8-03F3FBA8B7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ig Ideas for CAMPPP #4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219320" y="1905120"/>
            <a:ext cx="741672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ed information about a mathematical relationship can sometimes, but not always, allow us to predict other information about that relationship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C13-3247-4A77-BCEB-37F5041D30C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143000" y="2666880"/>
            <a:ext cx="74167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sets of questions will be circulated which are designed to bring out the big ideas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9C52-6B87-4FBA-80A6-EA9D69938BB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Getting a feel for the big idea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43000" y="2666880"/>
            <a:ext cx="7416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one of those sets of questions. Match each question to the big idea it is most likely to elicit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3CBA-DB00-4B12-8F67-CF98696A6F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u just experience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arallel task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talk more about these, but these two very related tasks were adjusted to meet your needs but treated together in our consolidation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BC7-2934-409D-A8EC-86BAF0152E1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y use big idea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066680" y="1828800"/>
            <a:ext cx="741708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uild connections students need in order to learn  (through grades and within grades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prioritize instructional goals(why explicit for kids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8205-0956-4C83-BF7F-E020AB43A4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Building lesson goal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66680" y="182880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can use a big idea to choose an appropriate lesson goal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A6F-1061-4323-9A92-D65A93D7D7C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42920" y="2014560"/>
            <a:ext cx="7416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be either positive or negative? Why is that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342-1FE6-44D7-BA56-CDCDAC7107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For example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66680" y="1828800"/>
            <a:ext cx="741708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 the expectation: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first degree equations with non-fractional coefficients using a variety of tools (e.g. 2x + 7 = 6x – 1)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D42F-9358-447B-99B3-652F9B7B522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66680" y="182880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propose that it is not that “students will use a balance to solve a linear equation”, but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2F5B-00F8-4F81-9A54-C6837F4700D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155600" y="990720"/>
            <a:ext cx="730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s my lesson goa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066680" y="1828800"/>
            <a:ext cx="741708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ybe: recognizing that solving an equation means determining an equivalent equation where the unknown value is more obvious.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8232-CA4E-47A3-8CEF-6913B29DC7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066680" y="182880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35C3-555F-47AF-8B6B-7B4C46C6AB0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I mea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8080" y="4114800"/>
            <a:ext cx="7417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quations are equivalent: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4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x – 7  = 1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x + 7 = x + 15</a:t>
            </a: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5F3A-E510-47A5-982A-FE668BE54B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23880" y="180972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 it’s sure easier to see the unknown value in one of them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066680" y="259092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need to ask a question or two that gets RIGHT to my goal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0359-DD1A-4895-84DE-C5328DAFC0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66680" y="259092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or disagree: The equation 5x – 4 =  17 + 3x is really the equation x = 11.5 in disguise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6A8-86F4-4E62-AAC0-13F5D8E0673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66680" y="2590920"/>
            <a:ext cx="7417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ch equation would you find easier to solve? Why?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x – 4 =  17 + 3x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11.5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083-5DD1-4CD8-94E8-927A2D5658B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155600" y="990720"/>
            <a:ext cx="730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hat does this mean for consolidating the lesso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1066680" y="2590920"/>
            <a:ext cx="74170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might someone say that solving an equation is about finding what easier equation is being disguised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445-FBD1-483D-AE07-21B3723B339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066680" y="1981080"/>
            <a:ext cx="7417080" cy="78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 expectation reads: construct tables of values and graphs using a variety of tools to represent linear relations derived from descriptions of realistic situations 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67D5-E16B-44EC-ACA1-057AC31ED4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066680" y="2895480"/>
            <a:ext cx="7417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es this minds-on engage students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is it open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111A-8662-41ED-8542-499422C619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More specifically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066680" y="1981080"/>
            <a:ext cx="7417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useful to write the table of values where the independent variable increases in a consistent way, but you don’t have to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AD2C-8C85-41DE-AD3A-B97C352846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So I could ask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981080"/>
            <a:ext cx="7417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e are two tables of values. You want to find out if they represent linear relationships. Which table makes it easier to tell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DBB8-4E54-4236-B569-275738AB4D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FBD-0D97-4CAF-9E26-8AC6F7B9902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447920" y="91440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57800" y="838080"/>
          <a:ext cx="1930320" cy="6019920"/>
        </p:xfrm>
        <a:graphic>
          <a:graphicData uri="http://schemas.openxmlformats.org/drawingml/2006/table">
            <a:tbl>
              <a:tblPr/>
              <a:tblGrid>
                <a:gridCol w="965160"/>
                <a:gridCol w="9651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radley Hand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</a:t>
            </a: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066680" y="19810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uld you use the other table too, if you wanted to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DA29-7333-4AAE-9162-B2C80E17A18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The Important Book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1066680" y="1981080"/>
            <a:ext cx="74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ould like to introduce you to Margaret Wise Brown’s The Important Book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A98A-90E3-42A8-AE4D-1D83F40EAE5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A Sample page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3FBE-003B-40F6-9F99-13EDE0F305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346" name="Picture 4" descr="Picture 1.png"/>
          <p:cNvPicPr/>
          <p:nvPr/>
        </p:nvPicPr>
        <p:blipFill>
          <a:blip r:embed="rId1"/>
          <a:stretch/>
        </p:blipFill>
        <p:spPr>
          <a:xfrm>
            <a:off x="1415880" y="190440"/>
            <a:ext cx="6312240" cy="647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155600" y="990720"/>
            <a:ext cx="730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e will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066680" y="1981080"/>
            <a:ext cx="74170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F06F-FB9A-49BA-A4F3-0D1FC33BE3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066680" y="1981080"/>
            <a:ext cx="74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is book throughout the week as a way for you to consolidate what you explore in our CAMPPP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66680" y="2895480"/>
            <a:ext cx="7417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as the important underlying idea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C3C0-54DB-4EF8-A32A-5D9956F0281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155600" y="99072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Characteristics of Minds-On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 OR how would my question force students to deal with that underlying idea?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FE5-D858-46D5-AAC5-7821A9A42F7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2895480"/>
            <a:ext cx="7417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 pattern linear is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re are a lot of linear patterns that include the same term because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50DE-187F-4D3B-8BDF-56151B47DF8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Comic Sans MS"/>
              </a:rPr>
              <a:t>Would the student be able to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 respond to…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066680" y="2895480"/>
            <a:ext cx="741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 10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erm of a linear pattern is relatively small, then…..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43F4-283C-459F-A041-00AE55EFA5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0:50:05Z</dcterms:created>
  <dc:creator>Anne &amp; Rod Yeager</dc:creator>
  <dc:description/>
  <dc:language>en-US</dc:language>
  <cp:lastModifiedBy>Marian Small</cp:lastModifiedBy>
  <dcterms:modified xsi:type="dcterms:W3CDTF">2009-07-16T13:09:33Z</dcterms:modified>
  <cp:revision>230</cp:revision>
  <dc:subject/>
  <dc:title>Slide 1</dc:title>
</cp:coreProperties>
</file>